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315-0256-4DB7-A25B-508A1327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224-3CCB-4D7C-86BE-4DCC1324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34C0-4955-42D4-BABE-65133BAD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99B4-5678-4F53-8BC5-5BA58E9C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413-9D59-4B89-92C3-753DF57E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A3C-6411-475A-8912-CDB6F95F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A13-A8D7-401F-87EE-B1322448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49D-004A-4515-8347-B6409E98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BE9-7755-4C45-9F3B-FC26308B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032-F1A2-456F-B74F-5E94F015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9AD-0180-44B2-8FD6-97B8C9EA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B06-93AD-4EDC-9F40-67EC6191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94E3-9A7B-42EA-B040-1AB9F48C9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3 Oslavujme Spasiteľ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slavujme Spasiteľ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vet prišiel kvôli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je naša nádej smel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y Božej slávny pl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íži mrel Boží Sy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obeť za hriech sve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retí deň z hrobu vst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náš, slávy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a zemi skončil di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al časť na výs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a naša môže smel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ľadieť k trónu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znej vrúcnej vďaky spev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leť v kraje nadoblač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zvenou nech všade zni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 – naše spaseni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celom svete nech je zn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Pán Ježiš zvíťaz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a svojho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ob i smrť on poraz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deme raz večne s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i vziať nás príde v sláv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a preto nesie v dia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ša pieseň vďaky, chváľ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08:07:52Z</dcterms:modified>
  <cp:revision>20</cp:revision>
  <dc:subject/>
  <dc:title>Je veľký náš Pán, on slávy je Kráľ Nech do všetkých strán  spev vrúcnych znie chvál.</dc:title>
</cp:coreProperties>
</file>